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83C3-8AD1-487A-8DA3-F3486BE75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hormones travel through the bod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ic hormones stimulate other hormones to be secreted.</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normal increases or decreases in hormone levels result in endocrine disease.</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function of insulin and glucag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hormones regulate sexual development and ongoing functi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opressin from the posterior pituitary regulates water retention or diuresi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renal cortex hormones regulate mineral retention and cell metabolis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edback loops provide needed information from distant glands and tissues. In turn, the pituitary is stimulated to increase hormone production or to cut back on production depending on the messages received.</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there was an interruption in TRH secretion in the hypothalamu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tuitary is involved in most endocrine functions, directly or indirectl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unctions are unique for pregnancy and lactating females, biologically preparing the mother for childbearing, birth, and breastfee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gigantism?</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hysical symptoms of acromegaly?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caused by pituitary adenoma or tumor.</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reatments for gigantism and acromega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igns and symptoms of hGH deficiencies?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is to administer hGH until the child reaches 5 ft of height. Other hormones may also need to be replaced, especially by puber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dwarfism?</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igns and symptoms of diabetes insipidu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olyuria?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olydipsia?</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consists of exogenous vasopressin administration. Patient should be monitored for dehydration signs and sympto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ndocrine gland most commonly produces patholog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 hormones affect metabolism of all body tissu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oods are rich in iodine?</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igns and symptoms of thyroid hypofuncti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ose of hyperfuncti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might exhibit only some of these signs and symptoms. Diagnosis is based on the lab tests of thyroid func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happen if a goiter is left untreated?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mmon treatment of goiter?</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function of antithyroid drugs?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ommon symptoms of Graves’ diseas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life-threatening signs and symptoms of Graves’ disea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yroidism is very common with subtle symptoms that take time, even years to develop. Failure to treat the condition can lead to serious diseas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develops as a dwarf with stocky stature and protruding abdomen, undeveloped sex organs and mental retardation. Lack of muscle tone prevents standing or walking.</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cretinism?</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myxedema trea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ought to be a cause of thyroid cancer?</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year survival rates are usually about 95% for all types except anaplastic or undifferentiated carcinoma, where there is poor survival. Metastasis to surrounding neck structures results in death less than one year after diagnosis.</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hypercalcemia?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hypercalcemia?</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varies but may include removal of one or more of the four parathyroid gland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ymptoms of hypoparathyroidism?</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use of corticosteroid drugs can induce Cushing syndrom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Cushing syndro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ive destruction of the adrenal gland occurs from autoimmune process, infection, tumor, or hemorrhag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Addison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creas secretes insulin for glucose metabolism.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isk factors for developing diabetes mellitu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mplications of diabetes mellitu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diabetes mellitu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a diabetic coma?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complications are very different in nature, presentation, and manage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tients require a combination of different insulin to be administered throughout the da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l hypoglycemics have different modes of action, some acting on pancreas, some on liver, some elsewhere. Many patients use a combination of more than one agent for better glucose contro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gestational diabet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ed by fasting blood glucose and glucose tolerance tests during pregnancy as well as by signs and symptom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40% of women who had GDMType 3 develop Type 2 diabetes within 5–10 years.</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hypoglycemia?</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requires glucose to function, and without an ongoing supply will shut down essential physiologic process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requires prompt restoration of glucose through IV or oral replacement. Diet and medications must be adjusted to prevent recurrence.</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es puberty normally begin for both males and femal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eatment is recommended for idiopathic precocity in males? In females?</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endocrine system maintain homeostasi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unctions are essential for lif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wo lobes of the pituitary gland?</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uitary works in close association with hypothalamus to control function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ommon symptoms that occur with problems in one of these gla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0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5" name="PlaceHolder 2"/>
          <p:cNvSpPr>
            <a:spLocks noGrp="1"/>
          </p:cNvSpPr>
          <p:nvPr>
            <p:ph type="subTitle"/>
          </p:nvPr>
        </p:nvSpPr>
        <p:spPr>
          <a:xfrm>
            <a:off x="1371600" y="3123720"/>
            <a:ext cx="6400800" cy="175284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58880" y="1465200"/>
            <a:ext cx="4026240" cy="4454640"/>
          </a:xfrm>
          <a:prstGeom prst="rect">
            <a:avLst/>
          </a:prstGeom>
          <a:ln w="0">
            <a:noFill/>
          </a:ln>
        </p:spPr>
      </p:pic>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jor Glands of Normal Endocrine Syste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either amino acids (proteins) or steroid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secreted into the bloodstream by specialized gland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their actions to very specific tissue receptor sites </a:t>
            </a:r>
            <a:endParaRPr b="0" lang="en-US" sz="2800" spc="-1" strike="noStrike">
              <a:solidFill>
                <a:srgbClr val="ffffff"/>
              </a:solidFill>
              <a:latin typeface="Arial"/>
            </a:endParaRPr>
          </a:p>
        </p:txBody>
      </p:sp>
      <p:sp>
        <p:nvSpPr>
          <p:cNvPr id="10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rmones are chemical messengers tha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ortant hormones include:</a:t>
            </a:r>
            <a:endParaRPr b="0" lang="en-US" sz="3600" spc="-1" strike="noStrike">
              <a:solidFill>
                <a:srgbClr val="ffff00"/>
              </a:solidFill>
              <a:latin typeface="Arial"/>
            </a:endParaRPr>
          </a:p>
        </p:txBody>
      </p:sp>
      <p:sp>
        <p:nvSpPr>
          <p:cNvPr id="10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in and glucagon</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rogen, progesterone, and testosterone</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yroxine, calcitonin, and thyroid stimulating hormone (TSH)</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opressin</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tisol and cortisone</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dosterone</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hormone (GH)</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icle stimulating hormone (FSH) and luteinizing hormone (L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39920" y="1465200"/>
            <a:ext cx="4660920" cy="4454640"/>
          </a:xfrm>
          <a:prstGeom prst="rect">
            <a:avLst/>
          </a:prstGeom>
          <a:ln w="0">
            <a:noFill/>
          </a:ln>
        </p:spPr>
      </p:pic>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othalamus-Pituitary-Thyroid Gland Feedback Mechanis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gative Feedback</a:t>
            </a:r>
            <a:endParaRPr b="0" lang="en-US" sz="36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al secretions typically regulated by negative feedback; information about the hormone level or its effect is fed back to the gland, which then responds according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1465200"/>
            <a:ext cx="7772400" cy="4454640"/>
          </a:xfrm>
          <a:prstGeom prst="rect">
            <a:avLst/>
          </a:prstGeom>
          <a:ln w="0">
            <a:noFill/>
          </a:ln>
        </p:spPr>
      </p:pic>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effect of pituitary hormones on target tissu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ituitary Gland Diseases</a:t>
            </a:r>
            <a:endParaRPr b="0" lang="en-US" sz="36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yperpituitarism:</a:t>
            </a:r>
            <a:r>
              <a:rPr b="0" lang="en-US" sz="2800" spc="-1" strike="noStrike">
                <a:solidFill>
                  <a:srgbClr val="ffffff"/>
                </a:solidFill>
                <a:latin typeface="Arial"/>
              </a:rPr>
              <a:t> Chronic, progressive disease caused by excessive production and secretion of pituitary hormones, especially growth hormone (HG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ypes of Hyperpituitarism</a:t>
            </a:r>
            <a:endParaRPr b="0" lang="en-US" sz="3600" spc="-1" strike="noStrike">
              <a:solidFill>
                <a:srgbClr val="ffff00"/>
              </a:solidFill>
              <a:latin typeface="Arial"/>
            </a:endParaRPr>
          </a:p>
        </p:txBody>
      </p:sp>
      <p:sp>
        <p:nvSpPr>
          <p:cNvPr id="11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gantism: increased growth hormone — occurs prior to puberty</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focuses on reducing secreted hGH through radiation or surgical intervention to reduce pituitary size </a:t>
            </a:r>
            <a:endParaRPr b="0" lang="en-US" sz="24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megaly: increased growth hormone — occurs after puberty is complete</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focuses on reversing or preventing tumor mass effects and reducing secreted GH ideally through surgery with or without radiation to the pituitary g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pituitarism</a:t>
            </a:r>
            <a:endParaRPr b="0" lang="en-US" sz="36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ficiency or absence of the hormones produced by the pituitary gland, especially those of the anterior pituitary.</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use of hypopituitarism may be a tumor or the pituitary or hypothalamus. Headache and blindness may be symptoms of tumor compression of the adjacent optic nerve.</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of panhypopituitarism is sometimes unknown; it is more common in women.</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based on patient age, severity and type, and underlying cause, includes removal of tumor and hormone replacement thera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ample of Hypopituitarism</a:t>
            </a:r>
            <a:endParaRPr b="0" lang="en-US" sz="36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warfism:</a:t>
            </a:r>
            <a:r>
              <a:rPr b="0" lang="en-US" sz="2800" spc="-1" strike="noStrike">
                <a:solidFill>
                  <a:srgbClr val="ffffff"/>
                </a:solidFill>
                <a:latin typeface="Arial"/>
              </a:rPr>
              <a:t> abnormal underdevelopment that occurs in children due to decreased growth hormone produ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atotropin (hGH) administra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ment of thyroid and adrenal hormon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 hormones as puberty approaches as necess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4</a:t>
            </a:r>
            <a:br>
              <a:rPr sz="3200"/>
            </a:br>
            <a:r>
              <a:rPr b="0" lang="en-US" sz="2800" spc="-1" strike="noStrike">
                <a:solidFill>
                  <a:srgbClr val="ffff00"/>
                </a:solidFill>
                <a:latin typeface="Arial"/>
              </a:rPr>
              <a:t>Diseases and Conditions of the Endocrine System</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betes Insipidus</a:t>
            </a:r>
            <a:endParaRPr b="0" lang="en-US" sz="36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ficiency in the release of vasopressin (ADH) from the posterior pituitary resulting in excessive (polyuria) urine excretion and thirst (polydipsia)</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consists of vasopressin injections, nasal spray or oral desmopressin acet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yroid Gland Diseases</a:t>
            </a:r>
            <a:endParaRPr b="0" lang="en-US" sz="36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disorders caused by increased or decreased amounts of thyroid hormon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goit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himoto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thyroidism/Graves’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yroidis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xede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465200"/>
            <a:ext cx="380052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func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dycardia</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pa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gai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alertnes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igu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ema/bloating</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circula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intoleranc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y skin and hair</a:t>
            </a:r>
            <a:endParaRPr b="0" lang="en-US" sz="2400" spc="-1" strike="noStrike">
              <a:solidFill>
                <a:srgbClr val="ffffff"/>
              </a:solidFill>
              <a:latin typeface="Arial"/>
            </a:endParaRPr>
          </a:p>
        </p:txBody>
      </p:sp>
      <p:sp>
        <p:nvSpPr>
          <p:cNvPr id="125" name="PlaceHolder 2"/>
          <p:cNvSpPr>
            <a:spLocks noGrp="1"/>
          </p:cNvSpPr>
          <p:nvPr>
            <p:ph/>
          </p:nvPr>
        </p:nvSpPr>
        <p:spPr>
          <a:xfrm>
            <a:off x="4614840" y="1465200"/>
            <a:ext cx="384336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func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ycardia/palpitation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rrhea</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los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xiety/restlessnes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igu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tit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ating</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 intolerance </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Symptom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mple Goiter</a:t>
            </a:r>
            <a:endParaRPr b="0" lang="en-US" sz="3600" spc="-1" strike="noStrike">
              <a:solidFill>
                <a:srgbClr val="ffff00"/>
              </a:solidFill>
              <a:latin typeface="Arial"/>
            </a:endParaRPr>
          </a:p>
        </p:txBody>
      </p:sp>
      <p:sp>
        <p:nvSpPr>
          <p:cNvPr id="12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largement of the thyroid gland:</a:t>
            </a:r>
            <a:r>
              <a:rPr b="0" lang="en-US" sz="2800" spc="-1" strike="noStrike">
                <a:solidFill>
                  <a:srgbClr val="ffffff"/>
                </a:solidFill>
                <a:latin typeface="Arial"/>
              </a:rPr>
              <a:t> usually palpable results from shortage of dietary iodin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 swollen mass (goiter) at anterior aspect of neck, and dyspnea and difficulty swallowing with further enlargement of goiter.</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ncludes one drop per week of potassium iodi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Hyperthyroidism</a:t>
            </a:r>
            <a:endParaRPr b="0" lang="en-US" sz="3200" spc="-1" strike="noStrike">
              <a:solidFill>
                <a:srgbClr val="ffff00"/>
              </a:solidFill>
              <a:latin typeface="Arial"/>
            </a:endParaRPr>
          </a:p>
        </p:txBody>
      </p:sp>
      <p:sp>
        <p:nvSpPr>
          <p:cNvPr id="13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ves’ disease:</a:t>
            </a:r>
            <a:r>
              <a:rPr b="0" lang="en-US" sz="2400" spc="-1" strike="noStrike">
                <a:solidFill>
                  <a:srgbClr val="ffffff"/>
                </a:solidFill>
                <a:latin typeface="Arial"/>
              </a:rPr>
              <a:t> diffuse goiter and over-production of thyroid hormone that can result in life-threatening condition</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 of Graves’ disease are unknown but it is thought to be autoimmune in nature and there is a strong familial predisposition for it.</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ophthalmos,</a:t>
            </a:r>
            <a:r>
              <a:rPr b="0" lang="en-US" sz="2000" spc="-1" strike="noStrike">
                <a:solidFill>
                  <a:srgbClr val="ffffff"/>
                </a:solidFill>
                <a:latin typeface="Arial"/>
              </a:rPr>
              <a:t> the outward protrusion of the eyeball, can be present with Graves’ disease. Other symptoms include rapid heartbeat, insomnia, and weightloss, to name a few.</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goal is to reduce thyroid hormone through antithyroid drugs and beta-blockers, or for severe cases, radioactive iodine or surge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Hypothyroidism</a:t>
            </a:r>
            <a:endParaRPr b="0" lang="en-US" sz="3200" spc="-1" strike="noStrike">
              <a:solidFill>
                <a:srgbClr val="ffff00"/>
              </a:solidFill>
              <a:latin typeface="Arial"/>
            </a:endParaRPr>
          </a:p>
        </p:txBody>
      </p:sp>
      <p:sp>
        <p:nvSpPr>
          <p:cNvPr id="13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tinism: </a:t>
            </a:r>
            <a:r>
              <a:rPr b="0" lang="en-US" sz="2400" spc="-1" strike="noStrike">
                <a:solidFill>
                  <a:srgbClr val="ffffff"/>
                </a:solidFill>
                <a:latin typeface="Arial"/>
              </a:rPr>
              <a:t>a congenital condition in children in which the thyroid gland is absent or nonfunctional resulting in mental or growth retardation</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ed with thyroid hormone throughout lif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yxedema:</a:t>
            </a:r>
            <a:r>
              <a:rPr b="0" lang="en-US" sz="2400" spc="-1" strike="noStrike">
                <a:solidFill>
                  <a:srgbClr val="ffffff"/>
                </a:solidFill>
                <a:latin typeface="Arial"/>
              </a:rPr>
              <a:t> severe condition that develops in older child or adult; can result in life-threatening symptoms including myxedema coma </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 slowed metabolism, menorrhagia, weight gain, muscular weakness, and tiredness amongst others</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 administration of levothyroxine sodiu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less lump or nodule on the thyroid gland that is malignant.</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s usually surgery to remove the thyroid gland and any involved lymph nodes and replacement hormon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plastic types may only be treated with radiation and chemotherapy to prolong survival.</a:t>
            </a:r>
            <a:endParaRPr b="0" lang="en-US" sz="2800" spc="-1" strike="noStrike">
              <a:solidFill>
                <a:srgbClr val="ffffff"/>
              </a:solidFill>
              <a:latin typeface="Arial"/>
            </a:endParaRPr>
          </a:p>
        </p:txBody>
      </p:sp>
      <p:sp>
        <p:nvSpPr>
          <p:cNvPr id="13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a:t>
            </a:r>
            <a:br>
              <a:rPr sz="3200"/>
            </a:br>
            <a:r>
              <a:rPr b="0" lang="en-US" sz="3200" spc="-1" strike="noStrike">
                <a:solidFill>
                  <a:srgbClr val="ffff00"/>
                </a:solidFill>
                <a:latin typeface="Arial"/>
              </a:rPr>
              <a:t>Thyroid Cancer</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thyroid Gland Disease</a:t>
            </a:r>
            <a:endParaRPr b="0" lang="en-US" sz="3600" spc="-1" strike="noStrike">
              <a:solidFill>
                <a:srgbClr val="ffff00"/>
              </a:solidFill>
              <a:latin typeface="Arial"/>
            </a:endParaRPr>
          </a:p>
        </p:txBody>
      </p:sp>
      <p:sp>
        <p:nvSpPr>
          <p:cNvPr id="136"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erparathyroidism</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production of PTH hormone, resulting in demineralization of bone and release of excess calcium</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s include muscle atrophy, GI pain, and nausea amongst others</a:t>
            </a:r>
            <a:endParaRPr b="0" lang="en-US" sz="18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is highly individualized based on caus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parathyroidism</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production of PTH hormone, resulting in excessive calcium deposits in tissue and decreased circulating calcium</a:t>
            </a:r>
            <a:endParaRPr b="0" lang="en-US" sz="18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with calcium replacement therapy with vitamin D (life-threatening is treated with calcium gluconate IV)</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drenal Gland Diseases</a:t>
            </a:r>
            <a:endParaRPr b="0" lang="en-US" sz="3600" spc="-1" strike="noStrike">
              <a:solidFill>
                <a:srgbClr val="ffff00"/>
              </a:solidFill>
              <a:latin typeface="Arial"/>
            </a:endParaRPr>
          </a:p>
        </p:txBody>
      </p:sp>
      <p:sp>
        <p:nvSpPr>
          <p:cNvPr id="13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hing Syndrom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n adrenal cortex secretion of cortis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signs and symptoms include weight gain, hypertension, and emotional insta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igns and symptoms: fatigue, muscle weakness, change in body fat distribution, moon face, fluid retention, edema, excessive hair growth, fertility chang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depends on cause: surgical removal or radiation of tumor or adrenal gland; drug therapy to suppress AC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drenal Gland Diseas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son Disease</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or complete failure of adrenocortical function</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usually gradual over weeks to month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igue, weakness, gastrointestinal disturbances, weight loss, fluid and electrolyte imbalances, cardiovascular problems, depression, anxiety, “bronzing” of skin tone</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 replacement of natural hormones; increased fluid intake; control of salt and potassium intake; and high carbohydrate/protein die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8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major glands of the endocrine system.</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importance of hormones and explain some of the critical body functions that they control.</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normal pituitary func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gigantism to acromega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Mellit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insulin production in the pancrea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of glucose to cells is impair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begin to use fats and proteins as energy alternati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glucose levels continue to increase, resulting in state of hyperglycem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and symptoms include frequent thirst, urination, weight loss, fatigue, increased appetite</a:t>
            </a:r>
            <a:endParaRPr b="0" lang="en-US" sz="2400" spc="-1" strike="noStrike">
              <a:solidFill>
                <a:srgbClr val="ffffff"/>
              </a:solidFill>
              <a:latin typeface="Arial"/>
            </a:endParaRPr>
          </a:p>
        </p:txBody>
      </p:sp>
      <p:sp>
        <p:nvSpPr>
          <p:cNvPr id="14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Mellit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1: </a:t>
            </a:r>
            <a:r>
              <a:rPr b="0" lang="en-US" sz="2400" spc="-1" strike="noStrike">
                <a:solidFill>
                  <a:srgbClr val="ffffff"/>
                </a:solidFill>
                <a:latin typeface="Arial"/>
              </a:rPr>
              <a:t>early, abrupt onset before age 30 with little or no insulin secre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2:</a:t>
            </a:r>
            <a:r>
              <a:rPr b="0" lang="en-US" sz="2400" spc="-1" strike="noStrike">
                <a:solidFill>
                  <a:srgbClr val="ffffff"/>
                </a:solidFill>
                <a:latin typeface="Arial"/>
              </a:rPr>
              <a:t> more common form with gradual onset after age 30, especially after age 55, with some pancreatic function intact</a:t>
            </a:r>
            <a:endParaRPr b="0" lang="en-US" sz="2400" spc="-1" strike="noStrike">
              <a:solidFill>
                <a:srgbClr val="ffffff"/>
              </a:solidFill>
              <a:latin typeface="Arial"/>
            </a:endParaRPr>
          </a:p>
        </p:txBody>
      </p:sp>
      <p:sp>
        <p:nvSpPr>
          <p:cNvPr id="14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
          <p:cNvSpPr/>
          <p:nvPr/>
        </p:nvSpPr>
        <p:spPr>
          <a:xfrm>
            <a:off x="914400" y="685800"/>
            <a:ext cx="44956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arning Signs and Interventions for Diabetic Coma and Insulin Reaction</a:t>
            </a:r>
            <a:endParaRPr b="0" lang="en-US" sz="3600" spc="-1" strike="noStrike">
              <a:solidFill>
                <a:srgbClr val="ffffff"/>
              </a:solidFill>
              <a:latin typeface="Arial"/>
            </a:endParaRPr>
          </a:p>
        </p:txBody>
      </p:sp>
      <p:pic>
        <p:nvPicPr>
          <p:cNvPr id="146" name="" descr=""/>
          <p:cNvPicPr/>
          <p:nvPr/>
        </p:nvPicPr>
        <p:blipFill>
          <a:blip r:embed="rId1"/>
          <a:stretch/>
        </p:blipFill>
        <p:spPr>
          <a:xfrm>
            <a:off x="5486400" y="228600"/>
            <a:ext cx="2868480" cy="582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mellitus 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is to normalize blood glucose levels and minimize complications through:</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t control</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rcis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t blood and urine tes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ulin injections or oral hypoglycemic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 loss (if overweigh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health care</a:t>
            </a:r>
            <a:endParaRPr b="0" lang="en-US" sz="2000" spc="-1" strike="noStrike">
              <a:solidFill>
                <a:srgbClr val="ffffff"/>
              </a:solidFill>
              <a:latin typeface="Arial"/>
            </a:endParaRPr>
          </a:p>
        </p:txBody>
      </p:sp>
      <p:sp>
        <p:nvSpPr>
          <p:cNvPr id="14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stational diabetes mellitus (GDM)</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3: </a:t>
            </a:r>
            <a:r>
              <a:rPr b="0" lang="en-US" sz="2400" spc="-1" strike="noStrike">
                <a:solidFill>
                  <a:srgbClr val="ffffff"/>
                </a:solidFill>
                <a:latin typeface="Arial"/>
              </a:rPr>
              <a:t>decreased ability to metabolize glucose during pregnancy with onset around 24-28 weeks of gestation; the condition usually disappears right after deliv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might include control of diet; limited intake of simple sugars; oral hypoglycemic agents; insulin</a:t>
            </a:r>
            <a:endParaRPr b="0" lang="en-US" sz="2400" spc="-1" strike="noStrike">
              <a:solidFill>
                <a:srgbClr val="ffffff"/>
              </a:solidFill>
              <a:latin typeface="Arial"/>
            </a:endParaRPr>
          </a:p>
        </p:txBody>
      </p:sp>
      <p:sp>
        <p:nvSpPr>
          <p:cNvPr id="15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ly low blood glucose level that can be caused by excessive insulin secretion in the pancreas, fasting, or medication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and symptoms: sweating, nervousness, hunger, weakness, dizziness, headache, palpitations, confusion, visual disturbance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vere or untreated, can cause seizures, stupor, coma, and death</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acute requires intravenous infusion of glucose; hormone glucagon; complex carbohydrate/protein snack with stabilization</a:t>
            </a:r>
            <a:endParaRPr b="0" lang="en-US" sz="2400" spc="-1" strike="noStrike">
              <a:solidFill>
                <a:srgbClr val="ffffff"/>
              </a:solidFill>
              <a:latin typeface="Arial"/>
            </a:endParaRPr>
          </a:p>
        </p:txBody>
      </p:sp>
      <p:sp>
        <p:nvSpPr>
          <p:cNvPr id="15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cocious Puberty</a:t>
            </a:r>
            <a:endParaRPr b="0" lang="en-US" sz="3600" spc="-1" strike="noStrike">
              <a:solidFill>
                <a:srgbClr val="ffff00"/>
              </a:solidFill>
              <a:latin typeface="Arial"/>
            </a:endParaRPr>
          </a:p>
        </p:txBody>
      </p:sp>
      <p:sp>
        <p:nvSpPr>
          <p:cNvPr id="154"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boys, puberty that begins before age 9 </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girls, puberty that begins before age 8</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include tumors of the testes/ovaries, hypothalamic or pituitary dysfunction or tumors, and ingestion of hormones or sex steroids</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depends on cause: no treatment if idiopathic; hormone therapy to suppress sexual maturation until appropriate time; treatment more invasive if cause is testicular or brain tum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condition of dwarfism and its etiology.</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cause of diabetes insipid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treatment of a simple goiter.</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signs and symptoms of Graves’ diseas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 between cretinism and myxede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pathogenesis of diabetes mellit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two major types of diabetes mellit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 between diabetic coma and insulin shock.</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medical management of all three types of diabetes melli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hypoglycemia can be a serious medical condi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signs and symptoms of thyroid hypofunction with those of thyroid hyperfunction. </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signs and symptoms of thyroid malignancy. Discuss the most important prognostic fa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4</a:t>
            </a:r>
            <a:br>
              <a:rPr sz="3200"/>
            </a:br>
            <a:r>
              <a:rPr b="0" lang="en-US" sz="3200" spc="-1" strike="noStrike">
                <a:solidFill>
                  <a:srgbClr val="ffff00"/>
                </a:solidFill>
                <a:latin typeface="Arial"/>
              </a:rPr>
              <a:t>Lesson 4.1</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Endocrine System</a:t>
            </a:r>
            <a:endParaRPr b="0" lang="en-US" sz="3600" spc="-1" strike="noStrike">
              <a:solidFill>
                <a:srgbClr val="ffff00"/>
              </a:solidFill>
              <a:latin typeface="Arial"/>
            </a:endParaRPr>
          </a:p>
        </p:txBody>
      </p:sp>
      <p:sp>
        <p:nvSpPr>
          <p:cNvPr id="9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powerful chemical messengers called hormones to:</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homeostas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d to str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e essential func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metabolic rat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growth and develop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tuitary</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roid</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hyroid</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crea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aries/test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eal</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mus</a:t>
            </a:r>
            <a:endParaRPr b="0" lang="en-US" sz="2800" spc="-1" strike="noStrike">
              <a:solidFill>
                <a:srgbClr val="ffffff"/>
              </a:solidFill>
              <a:latin typeface="Arial"/>
            </a:endParaRPr>
          </a:p>
        </p:txBody>
      </p:sp>
      <p:sp>
        <p:nvSpPr>
          <p:cNvPr id="9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jor glands of the endocrine system ar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15:48:21Z</dcterms:created>
  <dc:creator>Michael &amp; Eleftheria Parafink</dc:creator>
  <dc:description/>
  <dc:language>en-US</dc:language>
  <cp:lastModifiedBy>azhagubalan</cp:lastModifiedBy>
  <cp:lastPrinted>2005-01-18T19:41:57Z</cp:lastPrinted>
  <dcterms:modified xsi:type="dcterms:W3CDTF">2008-01-31T10:32:03Z</dcterms:modified>
  <cp:revision>72</cp:revision>
  <dc:subject/>
  <dc:title>Diseases and Conditions of the Endocrine System</dc:title>
</cp:coreProperties>
</file>